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B7D4-3392-4483-96CD-16A187C8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7440" y="3795120"/>
            <a:ext cx="855036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1D3-EB48-4051-BCB6-E361CDE9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7440" y="37951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9000" y="37951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A17-2F79-4A2E-862F-4794D745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8240" y="8557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9400" y="8557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7440" y="37951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8240" y="37951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9400" y="37951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EAE-1BA4-407D-9249-1FECB92A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864A-793F-455E-B2D1-A853FA84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ec1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33AB-399E-499C-8C30-4D49B1D2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562C-249B-451D-B331-D3AB0506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5943-AF6F-438F-AF94-248E9976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3F27-CBA5-4BC2-9785-08EB3FBF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74320" y="99000"/>
            <a:ext cx="69087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9ec1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8C76-2B96-401E-B3CD-60D8EFBC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7440" y="37951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9DCF-BF50-45C2-A929-D6D87A80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9ec1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F55-4FBF-4B6C-A7D9-B57CEFDA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9000" y="37951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A449-AA24-44AC-B0C3-9520E297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7440" y="3795120"/>
            <a:ext cx="855036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4187-EC97-409A-9304-8A9D85CE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7440" y="3795120"/>
            <a:ext cx="855036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B096-80F1-406C-9822-4F6219B9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7440" y="37951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9000" y="37951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2705-BF8C-49C0-B9A8-C0E7C7B9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8240" y="8557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9400" y="8557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7440" y="37951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8240" y="37951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9400" y="3795120"/>
            <a:ext cx="27529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2C6E-C690-415B-8DFD-448D163A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88D6-317C-4BB2-B376-BD7CC880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9FF-BA4F-4559-8D00-538E3E7A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F5D-DBAB-4736-B6DE-17BD1D7C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4320" y="99000"/>
            <a:ext cx="690876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9ec1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4D76-CD7D-40B0-9663-59BCB0F4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7440" y="37951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0E5-4471-40B5-B9F7-0B90BB6A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9000" y="37951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A29-5512-4013-A4D3-84C0193A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9000" y="855720"/>
            <a:ext cx="41724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7440" y="3795120"/>
            <a:ext cx="855036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823-AAA5-45C1-BB11-13A5D054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slide_master_all"/>
          <p:cNvPicPr/>
          <p:nvPr/>
        </p:nvPicPr>
        <p:blipFill>
          <a:blip r:embed="rId2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spcBef>
                <a:spcPts val="601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2" marL="968400" indent="-168120">
              <a:spcBef>
                <a:spcPts val="601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3" marL="1312920" indent="-16992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4" marL="1657440" indent="-17136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5" marL="1657440" indent="-17136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6" marL="1657440" indent="-17136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93400" y="6605280"/>
            <a:ext cx="84924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b8781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b8781"/>
                </a:solidFill>
                <a:latin typeface="Times New Roman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133280" y="6606360"/>
            <a:ext cx="690084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b8781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b8781"/>
                </a:solidFill>
                <a:latin typeface="Times New Roman"/>
                <a:ea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524800" y="6604920"/>
            <a:ext cx="35568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b878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296E-ABE7-4572-9423-EC884F10EAD0}" type="slidenum">
              <a:rPr b="0" lang="en-US" sz="1100" spc="-1" strike="noStrike">
                <a:solidFill>
                  <a:srgbClr val="7b8781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_master_all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7824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1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93400" y="6605280"/>
            <a:ext cx="84924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b8781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b8781"/>
                </a:solidFill>
                <a:latin typeface="Times New Roman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1133280" y="6606360"/>
            <a:ext cx="690084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b8781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b8781"/>
                </a:solidFill>
                <a:latin typeface="Times New Roman"/>
                <a:ea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524800" y="6604920"/>
            <a:ext cx="35568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b8781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4A57-E882-4535-A4CE-B4636BEF2EC0}" type="slidenum">
              <a:rPr b="0" lang="en-US" sz="1100" spc="-1" strike="noStrike">
                <a:solidFill>
                  <a:srgbClr val="7b8781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c1dd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9ec1dd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800280" algn="ctr">
              <a:spcBef>
                <a:spcPts val="499"/>
              </a:spcBef>
              <a:buClr>
                <a:srgbClr val="3051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1430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486080" algn="ctr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5" marL="1486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6" marL="148608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47824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1a4"/>
                </a:solidFill>
                <a:latin typeface="Arial"/>
              </a:rPr>
              <a:t>Embedded Linux Development with Eclipse</a:t>
            </a:r>
            <a:endParaRPr b="1" lang="en-US" sz="3200" spc="-1" strike="noStrike">
              <a:solidFill>
                <a:srgbClr val="0051a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39720" y="4435200"/>
            <a:ext cx="780912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c1dd"/>
                </a:solidFill>
                <a:latin typeface="Arial"/>
              </a:rPr>
              <a:t>JT Thomas, MontaVista Software</a:t>
            </a:r>
            <a:endParaRPr b="1" lang="en-US" sz="2200" spc="-1" strike="noStrike">
              <a:solidFill>
                <a:srgbClr val="9ec1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4: Debugging an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etup launch configuration (Run | Run)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elect target connection (exported by RSE)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Login to target through shell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tart gdbserver on targe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pecify gdb remote connection and port in .gdbini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Open Debug Perspective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Debug application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343400" y="3124080"/>
            <a:ext cx="43434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ing Exam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MontaVista DevRocket 5.0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Edit-Compile-Debug automation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Application Analysis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Memory Usage Analysi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Memory Leak Detection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Performance Profiling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ystem Analysis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Performance Profiling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Trace Visualization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Filesystem Creation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62520" y="3070080"/>
            <a:ext cx="49528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ture (interesting) Initiati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DSDP – Device Software Development Projec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Umbrella project focused on improving embedded developmen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RTSC – Realtime System Components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TI led project to support DSPs and 16-bit microcontroller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TCF - Target Communications Framework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One “protocol to rule them all”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Debugging, monitoring, analysis, and test tool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DD - Device Debugging 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Extensible Debugger Services Framework for better integration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Eclipse is quickly becoming the de-facto standard for embedded Linux Integrated Development Environments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CDT is mature enough (now) to support cross-compilation and debugging – and to handle larger projects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RSE makes target management easy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Embedded focused features and integration is improving all the time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It’s time to give it a try!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and Answ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Anyone?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Bueller?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Eclipse History and Overview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Key Eclipse Projects for embedded 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tep-by-Step to build, deploy, and debug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Working examples using DevRocke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Future Eclipse Projects for embedded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Questions &amp; Answers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clipse History and Over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Donated by IBM to open source community in NOV 2001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An open development platform … and a community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Multi-platform GUI “for anything and nothing in particular”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Java plug-in architecture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Governed by Eclipse Public License (EPL)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Initially implemented as a Java integrated development environment (JDT)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Eclipse foundation formed in JAN 2004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Many language and software development focused plug-ins and environments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Major sub-projects coordinated releases every June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clipse has grown up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0160" y="1395360"/>
            <a:ext cx="87454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Eclipse Projects for embed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CDT – C/C++ Development Toolki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C/C++ source code editor and indexer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Syntax highlighting and object browsing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Build managemen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Binary parsing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Native support for GCC/GDB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RSE – Remote Systems Explorer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Consistent interface across multiple target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Many connection mechanism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Filesystem managemen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Process management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Shell  (and terminal) acces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lling and Updating Eclip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eclipse.org/downloads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Updating and finding plug-ins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000320" cy="2076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3962160" cy="1779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42670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1: Setting up a Targ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Install RSE plugin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Setup SSH server on targe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Open Remote Systems Explorer Perspective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Create “SSH Only” RSE connection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Open integrated shell on targe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Perform file management tasks on targe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2352600" cy="2762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267080" y="3581280"/>
            <a:ext cx="26575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2: Building an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855036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Open C/C++ Perspective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Create new Managed Make C++ projec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Open build setting and preface compiler command line name with architecture name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lvl="1" marL="687240" indent="-230040">
              <a:spcBef>
                <a:spcPts val="550"/>
              </a:spcBef>
              <a:buClr>
                <a:srgbClr val="305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5f5f"/>
                </a:solidFill>
                <a:latin typeface="Arial"/>
              </a:rPr>
              <a:t>i.e. armv6_gcc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Build application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3581280"/>
            <a:ext cx="5688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4320" y="99000"/>
            <a:ext cx="69087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 3: Deploying an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7440" y="855720"/>
            <a:ext cx="479772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Open RSE perspective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Drag-and-drop binary from Local system to target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Open integrated remote shell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e0711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1a4"/>
                </a:solidFill>
                <a:latin typeface="Arial"/>
              </a:rPr>
              <a:t>Run application from shell</a:t>
            </a:r>
            <a:endParaRPr b="1" lang="en-US" sz="2400" spc="-1" strike="noStrike">
              <a:solidFill>
                <a:srgbClr val="0051a4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21715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1:58:17Z</dcterms:created>
  <dc:creator>JT Thomas</dc:creator>
  <dc:description/>
  <dc:language>en-US</dc:language>
  <cp:lastModifiedBy>PLanning</cp:lastModifiedBy>
  <dcterms:modified xsi:type="dcterms:W3CDTF">2008-05-01T20:39:35Z</dcterms:modified>
  <cp:revision>10</cp:revision>
  <dc:subject/>
  <dc:title>Embedded Linux Development with Eclipse</dc:title>
</cp:coreProperties>
</file>